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89B-6AA0-4B71-A3F0-AF1E991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48F-335D-4CC0-A92A-CADEF94A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375-7789-4272-B0BE-F7C8D6B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1C5-4F5F-440A-9277-0B6F93C5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D80-ED6D-41CF-A4A7-AD27917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9BB-9AB3-4663-854E-8A6C06A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6EB-E2A7-4CF3-854C-D0B31540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1FC-B3E2-4808-8C8D-CEF7AF8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5C3-42C7-44DE-AD00-33C05E3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79E-388D-4FB5-9021-9A398D7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471-A958-44ED-B42B-9650038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2DD-B236-4511-B48F-A1A503E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/31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CC9-AD24-42D2-A334-59B60D0F9083}" type="slidenum">
              <a:rPr b="0" lang="ar-Q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ve Statistics: Part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rokh Alemi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hif Haqqi M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ability and Val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447920"/>
          <a:ext cx="8153280" cy="4800600"/>
        </p:xfrm>
        <a:graphic>
          <a:graphicData uri="http://schemas.openxmlformats.org/drawingml/2006/table">
            <a:tbl>
              <a:tblPr/>
              <a:tblGrid>
                <a:gridCol w="1752480"/>
                <a:gridCol w="3429000"/>
                <a:gridCol w="2971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stency of results on repeat meas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uring what is supposed to be measu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-r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e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a-r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lit h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ive valid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-re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Be Valid You Must Have a Reliable Measure.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ut You Can Have an Invalid Measure That Is Reli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liability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page shows a table from Hayward, RA, McMahon LF, Bernard AM. Evaluating the care of general medicine inpatients: how good is implicit review? Annals of Internal Medicine, volume 118(7), 1993, pp 550-55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viewers rated the quality of health care delivered in the same case.  The Table shows inter-rater reli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00605-199304010-000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-rater 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400480"/>
          <a:ext cx="777240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00480"/>
                    <a:ext cx="77724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n, arithmetic average, is found by adding values of the data and dividing by the number of values.  The mean of 3, and 4 is 3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ometric average is found by multiplying the values of the data and taking the power of one divided by the number of values.  The geometric average of 3 and 4 is square root of 3 times 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calculate the mean and geometric average for 3, 4, and 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 of 3, 4 and 5 is the sum of these numbers divided by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ic average of 3, 4 and 5 is the cube root of 3 times 4 times 5.  To calculate the cube root in excel you write a formula like:  =(3*4*5)^0.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3.86.  Open Excel and verify that you can do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Mean and Geometric A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ometric average is used when averaging probabilit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 is used in most other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an is the halfway point in a data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alculate median arrange data in order.  Calculate half of the observations by dividing the number of values by 2 and rounding the value to the lower number.  Count half the values and use the next value as me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38496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an for age of 7 patients (23, 45, 56, 23, 34, 65, 25) if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the list of values: 23, 23, 25, 34, 45, 56, 6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7 observations.  Divide 7 by two and round to lower number and you get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p the first 3 and the median is the next number.  In this example, 34 is the med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 this in Exc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frequent value observed is the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is always an observed value in the data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alculate the mode, count the number of times each value is repeated.  The value with most repetition is the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is in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of Co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Samp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Types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Reliability and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or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data: 23, 45, 56, 23, 34, 65, 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 is repeated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values are repeated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 is 2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s in Measures of Central T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median and mean could be three different numbers in asymmetrical distributions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data set there is only one mean and median but there may be many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is less influenced by the extreme values tha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is almost never observed, median is observed in only odd numbered data sets and mode is always observed in the data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61722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validity and reliability and explain the role of each in assessing the quality of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among nominal, ordinal, and numeric data, as well as discrete and continuo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numerical data, calculate the mean, median and mode, and state the relative advantages of each as a measure of central tend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able is an attribute of a person or an object tha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re rules for assigning numbers to objects to represent quantities of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 is the science of describing or making inferences about the world from a sample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ve statistics are numerical estimates that organize and sum up or present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statistics is the process of inferring from a sample to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um is one observation about the variable being measu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re a collection of obser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pulation consists of all subjects about whom the study is being cond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is a sub-group of population being exa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ample:  all subjects have equal chance of inclusion in the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 sampling:  selecting the kth numbered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ified sample: random sampling within pre-defined groups of su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d sampling:  A small random sample is made and if its results are ambiguous then another larger random sample is col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crete variable has gaps between its values.  For example, sex is a discrete variable.  If male is 1 and female is 0, values in between have no mean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inuous variable has no gaps between its values.  All values or fractions of values have meaning.  Age is an example of continuous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248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 to Table of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Variable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scale assign numbers to attribute to name the category.  The numbers have no meaning by themselves, e.g. DRG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inal scale assign numbers so that more of an attribute has higher values, e.g. Sever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interval scale the interval between the numbers has meaning, e.g. Fahrenheit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scale is an interval scale where zero has true meaning, e.g.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23:56:33Z</dcterms:created>
  <dc:creator>Mastee Badii</dc:creator>
  <dc:description/>
  <dc:language>en-US</dc:language>
  <cp:lastModifiedBy>Gene</cp:lastModifiedBy>
  <dcterms:modified xsi:type="dcterms:W3CDTF">2008-03-05T16:22:17Z</dcterms:modified>
  <cp:revision>32</cp:revision>
  <dc:subject/>
  <dc:title>Descriptive Statistics</dc:title>
</cp:coreProperties>
</file>